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7F63-E5C9-458D-835E-EA68BCB31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FA64-8A82-4439-B526-E87605FF2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extreme =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higher extreme =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upper quartile = 25</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0BFC-0743-45E3-9596-5E986C5CB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range data in ascending order: 0, 5, 5, 15, 15, 20, 20, 20, 25, 30, 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median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lower quartile =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upper quartile = 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e lower quartile from the higher quartile. Interquartile range = 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y interquartile range by 1.5. 20 X 1.5 =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that to the upper quartile. 25 + 30 =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tract that from the lower quartile. 5 - 30 = -25</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3D02-C8FF-4CA2-B313-40D5E81A1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CF4C-9FA7-43E4-806F-0CD30DFD0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A82B8-20F0-4DEA-A67C-2122824A1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D5C5BA49-260D-493A-B407-6F3BBCE3C5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A2834-B4F9-4D48-B8DC-2DD289780E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C1FE0-4056-4991-8B3B-17A4E3122D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0F33DA-D794-42AB-B202-ECF06662A1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59CD2-F228-4DEA-B329-3202B1F4E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5BD8E-6C14-4809-A31D-8C57F7C81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A44E7-96DC-4C5B-BD74-8431482761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353C5-67D8-40B3-88D2-3A4DB7F2A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1FDF49-3B5D-449F-9CCF-B9270E9CB5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7D2C1-B4A7-477F-A37C-8C0E450844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21B6DD-D51E-4625-BF3F-9D33EFFE71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FAAC8247-1720-4340-8C3D-C32DE423303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4EA686-C877-497E-92A6-3375F4EE52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D5F079-CD83-4F11-B6E3-9FE84D130B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C0F15-7847-4A90-8AB4-8066A73628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196773-00B8-4772-87E5-658AFE51ED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ECB484-690F-470F-8851-E05377DA4C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0DF6B-CEE1-4572-9262-E9E5A5015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748D3C-588A-4675-87A9-BC752854D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B64EF-C0DB-4B79-A5E3-A1FB190CB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B96302-4145-46B7-A3A0-1E7747580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CB5338-B481-4501-A382-5820F5D5CE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11209CB9-7F17-4E38-BCDC-21725CE200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DD4A78-1206-4D0D-8FA8-5607F0DB3B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3226756-977E-4CC7-BAB2-676FF46B62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4F4A8B-FAC1-493C-A509-0690B20C20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1FD11D-10A7-4E8D-A314-271FA916DA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5E14CB-0315-4EBA-9F3E-1BA648880F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281D3B-12DF-4A0C-BF61-FCC6A23741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E0FB41-7316-4B1A-8477-058DE7CCD6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E392F3-2868-4D9A-A95C-4FA9D81E4B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973FF8-E293-49C1-BF42-5EE49DF93A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103DFA-372C-4096-9621-0B883D26CA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2A3D74-E2F0-4251-94F5-DD435B178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846947-B1CA-4296-A660-D0003E94B8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8BD6B5-5F65-42F6-8B18-C799DFA13A4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7AC778-F1E7-45E3-8DFA-55868A89B1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61056A-BE4C-4218-952E-1D62C4379F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EB9A97-9E43-42D6-9E4E-61AD4EEB15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FD7862-E7C0-4B01-A788-ED3B648379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02F079-3B6D-4CC1-80A8-7BA6E99200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73E7E2-CE3E-41D3-8E1D-4B17F19A2E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DF9349-3B7D-45D4-9E8F-EF59092177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1F8DE6-DFB1-45AA-9B60-3CDC6CAB37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49A9A176-267B-4AF0-BB0D-2988A4FA1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438D53-EF1B-4C38-A6E4-EC8E0D50AA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63678-4F06-4D83-8460-A5E9F6492C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AB9E9F-4C4D-4996-AFFF-8D4C33F051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1B53D2-4F85-4CF9-B420-BD528F5A4F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FA59E3-5140-4C40-BADA-2780A04713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7F2EEFBE-C113-48AC-B017-14362BBF6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427EAFAB-76D5-4BFB-98A7-432F16EF1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D8197CD6-2304-4EC1-BCAB-3BA2AA285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7E4A4724-23BA-4EEB-AB38-EC8EE0EFE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DB516695-70BA-46F1-BA20-B51E36E82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1A084779-BE92-4CCD-A5E1-CCB0194EE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9C18FB0D-0382-47D2-A6EC-811ADD4A8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8CB01224-A675-406C-9D9B-9B373CF30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79A344E9-18E6-4212-AF75-3A10CC22B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7A51615E-2ADD-41AC-AA54-4F52D000E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21399E50-9DE8-4422-BA0B-4806F7CC1D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A6BC7-7DD1-4B0A-BFCF-833016296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A258D-FB2E-45B8-BCA8-E1A452B1E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CC88F-7982-4707-9966-81CE6C6DB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76342-07E8-4D21-A165-78C44A56C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CA063-984A-44D4-9012-F34553920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E95BCEAE-E77B-4ACD-A12E-8BB0E4F704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48734-8756-4CCB-8748-EF7A8A7FC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95A33-4F88-4162-8E77-51A711532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9F054-1B05-4322-84F1-39214646E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3708D-329E-4506-A9F7-74FC93CE0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EA381-4E04-4A3C-8185-68AC91D6C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07B575-8DD1-4472-AC39-1FFF7DE5F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64727-8E5F-435E-B3BE-57A0225A6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B5006-9097-4935-B826-DDCFE11B54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8C56E-F7C1-4544-B5BB-5FBF41C68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F6DE0-3AA9-4A44-9FB1-51B9DBE58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F06B1048-BA9E-4D4F-8F6D-D1DAD876FE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A63DB3-1B36-46F9-8C93-4BBE9B9AD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21D2D4-EA24-46A9-BA89-DA31836F8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49C5F-F66C-4BEF-8226-4005277D2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420D0-50FB-40B3-A068-25142B48A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6217F-4CD7-4972-B899-0474D62AA2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2D367-246B-4F33-8199-2FC6945612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28084A-677D-4A33-83A3-0A591641C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1E5A2-D1A9-419F-A3EE-E5F351D801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4A5C1-4F23-4E90-A382-8E6A8B5524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14E0B-5089-428A-9451-808EFCA45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75639D68-1431-42B7-BEE3-80C7E70D84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A6BC2F-430D-4788-AAC9-31CDD981B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E1D5CC-9B7C-4067-A69A-FD7FDD6DB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207F2-26AA-498C-81A3-604F356495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CE478-C18F-4455-816B-52948F10E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1F1FA-BF28-4BC2-B309-EEA077E3B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C9C1E-159A-43A7-A4AD-4758AFA28B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4D12D-4AA8-432B-9AB5-C8D0FE3BE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A8AF3-5EEB-4F36-BE10-140CE4DC0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F8B69-E187-49C0-AA97-5CE3278E0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ED60FE-D7E1-450F-800D-168F73624E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876F813C-4F81-4A52-9410-0D5D0535EAD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CC6AA5-DFBE-4E0C-9A88-626207A635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EF9950-8747-4F78-A1B3-64C0B8C62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A2EEAB-C35F-4A13-9954-06964126A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BA4E8B-5A41-4F46-80C8-4B1B573EB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9CAED-225D-4D63-A1BA-CC4876673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AE08B-4D61-4382-BA3C-C56E9ECD1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54E199-1E51-454D-B31D-3593D3D5E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E8ACE-123E-4910-A074-F5DF8983A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D9E752-B581-4259-B034-0814F6FBC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2F63D-8532-49AF-A8F9-C3C9E9313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CEFE9C16-C286-4793-AD1C-922C677E7F2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54B842-8E20-4E71-B02A-D4F02A4D1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6C2B49-234D-44F0-BF1F-1F86363032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0D6C89-6676-4F98-9291-AAB39A3D40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18FB1B-A4DF-4FE8-ABD4-A661D97D4C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C401B-52F5-4916-AFEA-9B99B9BD34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CC6C6-AAD0-4440-AB16-018B2E910F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7FF79-A038-4F08-A250-A5F35C974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A2A38D-8839-426D-9A89-09C8B7EB5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AD02D6-BC12-4AEE-B201-E66B1D1DD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884698-4663-4112-B551-98780296C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AC5034E8-5826-4C2F-A067-4DC77FCF4C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548DC-341E-47AE-96E9-1D4E394AA6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83753-28A4-4579-A785-1C72A0CA4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C5731-3DA4-4071-9F07-E2C432D05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3868CE-B474-4136-8680-7339A976A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492DDA-C82D-45E6-943E-B5FAF2FD77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B466F-DEAF-4861-AA65-D02E381AE9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822809-A5FA-4FC7-9D29-C6A983818B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754A3-BAE8-4F9B-A806-39C82C7FB5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C5249-BF70-4563-B11B-2A38F653CA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105298-5E0D-4E4F-9B4B-0E4EF50F9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8FCF2E24-B77B-4141-AB70-9BF03A82D2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2C9382-B7D6-498E-A03B-4767A6740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8FC9B-9F0E-4BF4-9EB7-DBA65E14DE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C625B-354D-4D56-9E2D-B839D606BD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171AE-DA24-4F74-A3F1-514AD6FFB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BC898-9FEC-4E85-91D6-F3867777CC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64236B-C4BF-4FB2-9986-7B11FB85DF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FDDAC-D3A8-4AF3-A2C9-F265D50AB8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B31745-59ED-4376-AAE4-992DFEDFAD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6377C-2E17-4DEF-91A4-2F6F40A84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3895B5-2868-4E3B-AB00-215AA04D4B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3CF0-CCE8-4F4E-8015-761E166E7C7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05D9-4ABD-476D-B8C7-02029EF328C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D3B4-117F-4E33-89F7-15A619B8CE9E}"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28AA-7F91-475F-9EF1-9798B79A6EA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980F-9B2E-4EF8-8CAB-22F1906C086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6547-19FF-4F53-9480-7B7174F5F0E3}"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B7B5-6A53-465D-87F6-A06D4954D0E4}"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2759-B1A9-4EF4-B57F-93B079341887}"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9F17-9993-46C9-8EB0-0C7B32A7CED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8169-6C37-49D3-A4B6-C6DAF77FFD0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1CE0-FE5C-4CEF-923D-4808A17A0B5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6939-2431-4AFA-8148-595D0D8AE36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4</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ort the data in ascending ord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Example data set: {4, 5, 2, 3, 15, 3, 3, 5}.</a:t>
            </a:r>
            <a:endParaRPr b="0" lang="en-US" sz="20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orted, it is {2, 3, 3, 3, 4, 5, 5, 1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median. This is the number at which half of the data points are larger and half are smaller. If there is an even number of data points, the middle two are averaged.</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e middle points are 3 and 4, so the median is (3 + 4)/2, or 3.5.</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upper quartile, Q2. This is the data point at which 25% of the data are larg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this is (5 + 5)/2, or 5.</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the lower quartile, Q1. This is the data point at which 25% of the data are smaller. If the data set is even, average the two points around the quartile.</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3 + 3)/2, or 3.</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nstructions for finding outlier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 IQ.</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data set, Q2 - Q1 = 5 - 3, or 2.</a:t>
            </a:r>
            <a:endParaRPr b="0" lang="en-US" sz="20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it from the lower quartile. Any data point outside these values is a mild outlier.</a:t>
            </a:r>
            <a:endParaRPr b="0" lang="en-US" sz="2400" spc="-1" strike="noStrike">
              <a:solidFill>
                <a:srgbClr val="4e3b30"/>
              </a:solidFill>
              <a:latin typeface="Verdana"/>
            </a:endParaRPr>
          </a:p>
          <a:p>
            <a:pPr lvl="2" marL="1314360" indent="-4572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n the example set, 1.5 x 2 = 3. 3 - 3 = 0 and 5 + 3 = 8. So any value less than 0 or greater than 8 would be a mild outlier. This means that 15 qualifies as an outlier.</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ir home gardens. Each student brings in a sample of the soil used in their home gardens and runs pH tests. The class data is statistically analyzed.</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Determining the five-number summary:</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extreme. (low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higher extreme. (highest valu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median. (middle ter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lower quartile. (median of lower half of data)</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rd upper quartile. (median of upper half of data)</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fontScale="98000"/>
          </a:bodyPr>
          <a:p>
            <a:pPr marL="335880" indent="-335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ing an outlier:</a:t>
            </a:r>
            <a:endParaRPr b="0" lang="en-US" sz="28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ascending order.</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median.</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upp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nd lower quartil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ubtract the lower quartile from the higher quartile to get the interquartile range.</a:t>
            </a:r>
            <a:endParaRPr b="0" lang="en-US" sz="2400" spc="-1" strike="noStrike">
              <a:solidFill>
                <a:srgbClr val="4e3b30"/>
              </a:solidFill>
              <a:latin typeface="Verdana"/>
            </a:endParaRPr>
          </a:p>
          <a:p>
            <a:pPr lvl="1" marL="896040" indent="-44784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ultiply the interquartile range by 1.5. Add this to the upper quartile and subtract from the lower quartile. Any data outside of these values is an outlier.</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6.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7.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6.2, 6.3, 6.6, 6.85, 7.2)</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pH data from the students’ home garden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7, 6.8, 6.5, 6.9, 6.2, 7.2, 6.4, 6.2, 6.6</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Fundamental Plant Science students complete soil tests, examine the data, and draw conclusio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2, 6.2, 6.4, 6.5, 6.6, 6.7, 6.8, 6.9, 7.2</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6.6</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6.3</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6.8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6.85 – 6.3 = 0.5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0.55 X 1.5 = 0.82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85 + 0.825 = 7.6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6.3 - 0.825 = 5.48</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5.48 to 7.68.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nitr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596" name="Picture 1" descr=""/>
          <p:cNvPicPr/>
          <p:nvPr/>
        </p:nvPicPr>
        <p:blipFill>
          <a:blip r:embed="rId1"/>
          <a:stretch/>
        </p:blipFill>
        <p:spPr>
          <a:xfrm>
            <a:off x="6629400" y="2133720"/>
            <a:ext cx="1990800" cy="121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extreme = 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higher extreme = 45</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Recor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5, 20, 30, 40, 45)</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 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5 ppm, 30 ppm, 20 ppm, 25 ppm, 5 ppm, 35 ppm, 40 ppm, 45 ppm, 40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2"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rrange data in ascending orde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20, 20, 25, 30, 30, 35, 40, 40, 45, 45</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median = 3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lower quartile = 2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nd upper quartile = 40</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e lower quartile from the high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quartile range = 20</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04"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ultiply interquartile range by 1.5.</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X 1.5 = 3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dd that to the upp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40 + 30 = 7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ubtract that from the lower quart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20 - 20 = 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There are no values in this data set that are outside the range of 0 to 70. Therefore, no, there are not any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6"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various soil phosphate levels using testing strip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 </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p:txBody>
      </p:sp>
      <p:pic>
        <p:nvPicPr>
          <p:cNvPr id="607" name="il_fi" descr="http://www4.agr.gc.ca/resources/prod/img/terr/images/1234205624280_image1.gif"/>
          <p:cNvPicPr/>
          <p:nvPr/>
        </p:nvPicPr>
        <p:blipFill>
          <a:blip r:embed="rId1">
            <a:lum bright="20000"/>
          </a:blip>
          <a:stretch/>
        </p:blipFill>
        <p:spPr>
          <a:xfrm>
            <a:off x="6553080" y="2133720"/>
            <a:ext cx="2190960" cy="120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0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Five-number summary = (0, 5, 20, 25, 40)</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ain, the following is the amount of</a:t>
            </a:r>
            <a:br>
              <a:rPr sz="2800"/>
            </a:br>
            <a:r>
              <a:rPr b="0" lang="en-US" sz="2800" spc="-1" strike="noStrike">
                <a:solidFill>
                  <a:srgbClr val="4e3b30"/>
                </a:solidFill>
                <a:latin typeface="Verdana"/>
              </a:rPr>
              <a:t>nitrate found in each soil tes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 ppm, 20 ppm, 15 ppm, 0 ppm, 25 ppm, 40 ppm, 20 ppm, 15 ppm, 5 ppm, 20 ppm, 30 ppm</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undamental Plant Science PS.2.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examine data to evaluate and manage soil/media and nutrient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est soil/media and plant tissue for nutrient levels.</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terpret test of soil/media and/or plant tissu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are not any values outside of -25 to 55, so there are no outliers in this data se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test the soil pH of the soils around the school building prior to planting flowers. Here is the recorded pH data from various locations and a representative s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5.8, 5.1, 5.0, 8.0, 5.3, 5.5, 5.8</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1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hat is the five-number summary of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5.0, 5.1, 5.5, 5.8, 8.0)</a:t>
            </a:r>
            <a:endParaRPr b="0" lang="en-US" sz="24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Is there an outlier in the data se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e3b30"/>
                </a:solidFill>
                <a:latin typeface="Verdana"/>
              </a:rPr>
              <a:t>Answer: Yes, 8.0 is an outlier because it is out of the acceptable range of 4.05 to 6.85.</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S.1.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draw conclusions from a set of data.</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ve-number summary</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sts of the upper and lower extremes, the median, and the upper and lower quartile.</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extreme = Great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extreme = Lowest number that occurs in the se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dian = Middle term when data arranged least to greatest</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Upper quartile = Median of the upper half of data</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Lower quartile = Median of the lower half of data</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determining quartiles:</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data in order from least to greatest.</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edian.</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dentify the middle term of each half of the data on either side of the median. These values are the upper and lower quartile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Consider the set {1, 3, 4, 5, 6, 7, 9}. </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extreme is 1.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lower half is {1, 3, 4}, and the middle term of that half is 3. Therefore, the lower quartile is 3.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median is the middle term, 5.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half is {6, 7, 9}, and the middle term of that half is 7. Therefore, the upper quartile is 7. </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upper extreme is 9.</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n outlier is a value in a data set that is far from the other values. Outliers can be caused by experimental errors, measurement errors, or by a long-tailed population.</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utlier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In the former cases, it can be desirable to identify outliers and remove them from data before performing a statistical analysis, because they can throw off the results and inaccurately represent the sample population.</a:t>
            </a:r>
            <a:endParaRPr b="0" lang="en-US" sz="24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simplest way to identify outliers is with the quartile metho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20:06:17Z</dcterms:modified>
  <cp:revision>23</cp:revision>
  <dc:subject/>
  <dc:title>South Dakota Ag Education</dc:title>
</cp:coreProperties>
</file>